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5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AC9-0F0C-493E-B27C-387AD093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A2D2-436E-4739-8E2E-75AD0738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D48-CA8B-4B6C-9A79-5A4B1E52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E7B-1A3E-471F-84F2-6D7941A4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5BC0-CCE3-4B00-BAE9-2817870D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72AE-E832-4442-A57F-B75B211D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6083-B8E9-463C-A301-DD78F2D3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5924-4150-4413-BE5F-B8B3162C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1C09-2909-4EBB-B049-E9B7374C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461E-7E6C-4F85-B67D-14DC1319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31EC-087B-48A0-BFD3-61EC77C8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ACE-1C90-4C19-BA50-4BDCB0C7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2469-6FFB-4AE0-BEDF-B084A56A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0033-1823-4294-9094-8EF0A803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A5ED-FDD9-4A2C-81CB-FC04123C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552D-1DDE-4DF4-B4C2-30CE0762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61B0-AE31-4C15-BF9A-08BCD7C1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5E7-D80E-4135-857F-507AF4D5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641-4DD2-4F88-9773-8284B633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ED6E-DB2B-4FED-86B0-FAF3C114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A56-06E8-4C08-90D1-768AB046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7C80-270B-4A4A-9111-7FBA8D7E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AAD-2605-4587-8A32-BF7DA9EB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094-E220-4AB2-AE64-C8C60D6C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3"/>
            <p:cNvSpPr/>
            <p:nvPr/>
          </p:nvSpPr>
          <p:spPr>
            <a:xfrm>
              <a:off x="11160" y="6456240"/>
              <a:ext cx="9144000" cy="424080"/>
            </a:xfrm>
            <a:prstGeom prst="pie">
              <a:avLst/>
            </a:pr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514440" y="6040440"/>
                <a:ext cx="46080" cy="3556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6"/>
              <p:cNvSpPr/>
              <p:nvPr/>
            </p:nvSpPr>
            <p:spPr>
              <a:xfrm>
                <a:off x="646200" y="6235560"/>
                <a:ext cx="27000" cy="3574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41"/>
              <p:cNvSpPr/>
              <p:nvPr/>
            </p:nvSpPr>
            <p:spPr>
              <a:xfrm>
                <a:off x="68400" y="4968720"/>
                <a:ext cx="171360" cy="898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prstGeom prst="pie">
                    <a:avLst/>
                  </a:pr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prstGeom prst="pie">
                    <a:avLst/>
                  </a:pr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8B36-B8DC-4D3E-9A72-76488B51B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Freeform 3"/>
            <p:cNvSpPr/>
            <p:nvPr/>
          </p:nvSpPr>
          <p:spPr>
            <a:xfrm>
              <a:off x="0" y="6448320"/>
              <a:ext cx="9132840" cy="425520"/>
            </a:xfrm>
            <a:prstGeom prst="pie">
              <a:avLst/>
            </a:pr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Group 5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Group 6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Freeform 7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8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9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Freeform 10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1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12"/>
                <p:cNvSpPr/>
                <p:nvPr/>
              </p:nvSpPr>
              <p:spPr>
                <a:xfrm>
                  <a:off x="763560" y="5951520"/>
                  <a:ext cx="149400" cy="70632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4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5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Freeform 16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7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8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20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1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2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5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7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8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9"/>
                <p:cNvSpPr/>
                <p:nvPr/>
              </p:nvSpPr>
              <p:spPr>
                <a:xfrm>
                  <a:off x="950760" y="5532480"/>
                  <a:ext cx="217800" cy="4636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31"/>
              <p:cNvSpPr/>
              <p:nvPr/>
            </p:nvSpPr>
            <p:spPr>
              <a:xfrm>
                <a:off x="700200" y="5676840"/>
                <a:ext cx="68040" cy="5986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Group 32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Freeform 33"/>
                <p:cNvSpPr/>
                <p:nvPr/>
              </p:nvSpPr>
              <p:spPr>
                <a:xfrm>
                  <a:off x="1467000" y="5872320"/>
                  <a:ext cx="93600" cy="5540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6"/>
              <p:cNvSpPr/>
              <p:nvPr/>
            </p:nvSpPr>
            <p:spPr>
              <a:xfrm>
                <a:off x="905040" y="6006960"/>
                <a:ext cx="41040" cy="601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Freeform 37"/>
              <p:cNvSpPr/>
              <p:nvPr/>
            </p:nvSpPr>
            <p:spPr>
              <a:xfrm>
                <a:off x="817560" y="5148360"/>
                <a:ext cx="176040" cy="1082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Freeform 39"/>
                <p:cNvSpPr/>
                <p:nvPr/>
              </p:nvSpPr>
              <p:spPr>
                <a:xfrm>
                  <a:off x="657360" y="5978520"/>
                  <a:ext cx="118800" cy="6872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0"/>
                <p:cNvSpPr/>
                <p:nvPr/>
              </p:nvSpPr>
              <p:spPr>
                <a:xfrm>
                  <a:off x="236520" y="5143680"/>
                  <a:ext cx="463680" cy="8744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41"/>
              <p:cNvSpPr/>
              <p:nvPr/>
            </p:nvSpPr>
            <p:spPr>
              <a:xfrm>
                <a:off x="0" y="3860640"/>
                <a:ext cx="268200" cy="1519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Group 42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Freeform 43"/>
                <p:cNvSpPr/>
                <p:nvPr/>
              </p:nvSpPr>
              <p:spPr>
                <a:xfrm>
                  <a:off x="309600" y="5826240"/>
                  <a:ext cx="68400" cy="99828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4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5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Freeform 46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prstGeom prst="pie">
                    <a:avLst/>
                  </a:pr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7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prstGeom prst="pie">
                    <a:avLst/>
                  </a:pr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8"/>
                <p:cNvSpPr/>
                <p:nvPr/>
              </p:nvSpPr>
              <p:spPr>
                <a:xfrm>
                  <a:off x="727200" y="4484520"/>
                  <a:ext cx="75960" cy="13147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50"/>
              <p:cNvSpPr/>
              <p:nvPr/>
            </p:nvSpPr>
            <p:spPr>
              <a:xfrm>
                <a:off x="1727280" y="6254640"/>
                <a:ext cx="117360" cy="3351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Freeform 51"/>
              <p:cNvSpPr/>
              <p:nvPr/>
            </p:nvSpPr>
            <p:spPr>
              <a:xfrm>
                <a:off x="3578400" y="6135840"/>
                <a:ext cx="156960" cy="3254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Freeform 52"/>
              <p:cNvSpPr/>
              <p:nvPr/>
            </p:nvSpPr>
            <p:spPr>
              <a:xfrm>
                <a:off x="2828880" y="5954760"/>
                <a:ext cx="262080" cy="3236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Freeform 53"/>
              <p:cNvSpPr/>
              <p:nvPr/>
            </p:nvSpPr>
            <p:spPr>
              <a:xfrm>
                <a:off x="1374840" y="5979960"/>
                <a:ext cx="487440" cy="4334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Freeform 54"/>
              <p:cNvSpPr/>
              <p:nvPr/>
            </p:nvSpPr>
            <p:spPr>
              <a:xfrm>
                <a:off x="2182680" y="6159600"/>
                <a:ext cx="368280" cy="425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Freeform 55"/>
              <p:cNvSpPr/>
              <p:nvPr/>
            </p:nvSpPr>
            <p:spPr>
              <a:xfrm>
                <a:off x="1990800" y="6006960"/>
                <a:ext cx="407880" cy="4064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Freeform 56"/>
              <p:cNvSpPr/>
              <p:nvPr/>
            </p:nvSpPr>
            <p:spPr>
              <a:xfrm>
                <a:off x="2281320" y="5711760"/>
                <a:ext cx="423720" cy="3999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Freeform 57"/>
              <p:cNvSpPr/>
              <p:nvPr/>
            </p:nvSpPr>
            <p:spPr>
              <a:xfrm>
                <a:off x="2508120" y="5313240"/>
                <a:ext cx="559080" cy="577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Freeform 58"/>
              <p:cNvSpPr/>
              <p:nvPr/>
            </p:nvSpPr>
            <p:spPr>
              <a:xfrm>
                <a:off x="2982960" y="5313240"/>
                <a:ext cx="538200" cy="581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Freeform 59"/>
              <p:cNvSpPr/>
              <p:nvPr/>
            </p:nvSpPr>
            <p:spPr>
              <a:xfrm>
                <a:off x="2989440" y="5897520"/>
                <a:ext cx="144360" cy="439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Freeform 60"/>
              <p:cNvSpPr/>
              <p:nvPr/>
            </p:nvSpPr>
            <p:spPr>
              <a:xfrm>
                <a:off x="608040" y="5451480"/>
                <a:ext cx="387360" cy="826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Freeform 61"/>
              <p:cNvSpPr/>
              <p:nvPr/>
            </p:nvSpPr>
            <p:spPr>
              <a:xfrm>
                <a:off x="885960" y="4862520"/>
                <a:ext cx="396720" cy="808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Freeform 63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4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5"/>
              <p:cNvSpPr/>
              <p:nvPr/>
            </p:nvSpPr>
            <p:spPr>
              <a:xfrm>
                <a:off x="1558800" y="5234040"/>
                <a:ext cx="131760" cy="901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Freeform 66"/>
              <p:cNvSpPr/>
              <p:nvPr/>
            </p:nvSpPr>
            <p:spPr>
              <a:xfrm>
                <a:off x="1120680" y="6132600"/>
                <a:ext cx="339840" cy="4316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Freeform 67"/>
              <p:cNvSpPr/>
              <p:nvPr/>
            </p:nvSpPr>
            <p:spPr>
              <a:xfrm>
                <a:off x="1400040" y="4549680"/>
                <a:ext cx="1060560" cy="15494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Freeform 68"/>
              <p:cNvSpPr/>
              <p:nvPr/>
            </p:nvSpPr>
            <p:spPr>
              <a:xfrm>
                <a:off x="2071800" y="5372280"/>
                <a:ext cx="395280" cy="7063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Freeform 69"/>
              <p:cNvSpPr/>
              <p:nvPr/>
            </p:nvSpPr>
            <p:spPr>
              <a:xfrm>
                <a:off x="2384280" y="4861080"/>
                <a:ext cx="438120" cy="8618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0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Group 71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Freeform 72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4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5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6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7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8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9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0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2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3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4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5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6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7"/>
              <p:cNvSpPr/>
              <p:nvPr/>
            </p:nvSpPr>
            <p:spPr>
              <a:xfrm>
                <a:off x="7854840" y="5180040"/>
                <a:ext cx="76320" cy="745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Freeform 88"/>
              <p:cNvSpPr/>
              <p:nvPr/>
            </p:nvSpPr>
            <p:spPr>
              <a:xfrm>
                <a:off x="8659800" y="5199120"/>
                <a:ext cx="122400" cy="7714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Freeform 89"/>
              <p:cNvSpPr/>
              <p:nvPr/>
            </p:nvSpPr>
            <p:spPr>
              <a:xfrm>
                <a:off x="7724880" y="5543640"/>
                <a:ext cx="338040" cy="9176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Freeform 90"/>
              <p:cNvSpPr/>
              <p:nvPr/>
            </p:nvSpPr>
            <p:spPr>
              <a:xfrm>
                <a:off x="7958160" y="4618080"/>
                <a:ext cx="209520" cy="797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Freeform 91"/>
              <p:cNvSpPr/>
              <p:nvPr/>
            </p:nvSpPr>
            <p:spPr>
              <a:xfrm>
                <a:off x="7599240" y="4125960"/>
                <a:ext cx="457200" cy="16333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Freeform 92"/>
              <p:cNvSpPr/>
              <p:nvPr/>
            </p:nvSpPr>
            <p:spPr>
              <a:xfrm>
                <a:off x="8147160" y="4429080"/>
                <a:ext cx="190440" cy="9097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Freeform 93"/>
              <p:cNvSpPr/>
              <p:nvPr/>
            </p:nvSpPr>
            <p:spPr>
              <a:xfrm>
                <a:off x="8344080" y="5945040"/>
                <a:ext cx="79200" cy="928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Freeform 94"/>
              <p:cNvSpPr/>
              <p:nvPr/>
            </p:nvSpPr>
            <p:spPr>
              <a:xfrm>
                <a:off x="8986680" y="5708520"/>
                <a:ext cx="71640" cy="5619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Freeform 95"/>
              <p:cNvSpPr/>
              <p:nvPr/>
            </p:nvSpPr>
            <p:spPr>
              <a:xfrm>
                <a:off x="8634240" y="5410080"/>
                <a:ext cx="120960" cy="560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Freeform 96"/>
              <p:cNvSpPr/>
              <p:nvPr/>
            </p:nvSpPr>
            <p:spPr>
              <a:xfrm>
                <a:off x="8839080" y="4911840"/>
                <a:ext cx="293760" cy="10094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Freeform 97"/>
              <p:cNvSpPr/>
              <p:nvPr/>
            </p:nvSpPr>
            <p:spPr>
              <a:xfrm>
                <a:off x="8489880" y="5964120"/>
                <a:ext cx="60480" cy="390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Freeform 98"/>
              <p:cNvSpPr/>
              <p:nvPr/>
            </p:nvSpPr>
            <p:spPr>
              <a:xfrm>
                <a:off x="8742240" y="5751360"/>
                <a:ext cx="100080" cy="3924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Freeform 99"/>
              <p:cNvSpPr/>
              <p:nvPr/>
            </p:nvSpPr>
            <p:spPr>
              <a:xfrm>
                <a:off x="8427960" y="5405400"/>
                <a:ext cx="244440" cy="7048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Freeform 100"/>
              <p:cNvSpPr/>
              <p:nvPr/>
            </p:nvSpPr>
            <p:spPr>
              <a:xfrm>
                <a:off x="8956800" y="6113520"/>
                <a:ext cx="66600" cy="403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Freeform 101"/>
              <p:cNvSpPr/>
              <p:nvPr/>
            </p:nvSpPr>
            <p:spPr>
              <a:xfrm>
                <a:off x="7470720" y="5383080"/>
                <a:ext cx="58680" cy="687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Freeform 102"/>
              <p:cNvSpPr/>
              <p:nvPr/>
            </p:nvSpPr>
            <p:spPr>
              <a:xfrm>
                <a:off x="6934320" y="5172120"/>
                <a:ext cx="355320" cy="966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Freeform 103"/>
              <p:cNvSpPr/>
              <p:nvPr/>
            </p:nvSpPr>
            <p:spPr>
              <a:xfrm>
                <a:off x="7248600" y="5330880"/>
                <a:ext cx="172800" cy="6714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Freeform 104"/>
              <p:cNvSpPr/>
              <p:nvPr/>
            </p:nvSpPr>
            <p:spPr>
              <a:xfrm>
                <a:off x="7632720" y="5010120"/>
                <a:ext cx="307800" cy="722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Freeform 105"/>
              <p:cNvSpPr/>
              <p:nvPr/>
            </p:nvSpPr>
            <p:spPr>
              <a:xfrm>
                <a:off x="7340760" y="5834160"/>
                <a:ext cx="257040" cy="6570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Freeform 106"/>
              <p:cNvSpPr/>
              <p:nvPr/>
            </p:nvSpPr>
            <p:spPr>
              <a:xfrm>
                <a:off x="7643880" y="6053040"/>
                <a:ext cx="258840" cy="4431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Freeform 107"/>
              <p:cNvSpPr/>
              <p:nvPr/>
            </p:nvSpPr>
            <p:spPr>
              <a:xfrm>
                <a:off x="8229600" y="4179960"/>
                <a:ext cx="496800" cy="1011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Freeform 108"/>
              <p:cNvSpPr/>
              <p:nvPr/>
            </p:nvSpPr>
            <p:spPr>
              <a:xfrm>
                <a:off x="7462800" y="5280120"/>
                <a:ext cx="439920" cy="7491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Freeform 109"/>
              <p:cNvSpPr/>
              <p:nvPr/>
            </p:nvSpPr>
            <p:spPr>
              <a:xfrm>
                <a:off x="7764480" y="5383080"/>
                <a:ext cx="363600" cy="711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Freeform 110"/>
              <p:cNvSpPr/>
              <p:nvPr/>
            </p:nvSpPr>
            <p:spPr>
              <a:xfrm>
                <a:off x="8026560" y="4878360"/>
                <a:ext cx="371160" cy="6969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Freeform 111"/>
              <p:cNvSpPr/>
              <p:nvPr/>
            </p:nvSpPr>
            <p:spPr>
              <a:xfrm>
                <a:off x="8651880" y="4179960"/>
                <a:ext cx="480960" cy="10126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Freeform 112"/>
              <p:cNvSpPr/>
              <p:nvPr/>
            </p:nvSpPr>
            <p:spPr>
              <a:xfrm>
                <a:off x="7899480" y="5797440"/>
                <a:ext cx="258840" cy="446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4847-C413-4939-BC97-607D2EE8D5E1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hyperlink" Target="file:///Anansi%20-%20A_Story__A_Story.asx" TargetMode="External"/><Relationship Id="rId2" Type="http://schemas.openxmlformats.org/officeDocument/2006/relationships/hyperlink" Target="file:///Mathica_s_Mathshop__Food_for_Thought.asf" TargetMode="External"/><Relationship Id="rId3" Type="http://schemas.openxmlformats.org/officeDocument/2006/relationships/hyperlink" Target="file:///Folktales_from_Afar.asf" TargetMode="External"/><Relationship Id="rId4" Type="http://schemas.openxmlformats.org/officeDocument/2006/relationships/hyperlink" Target="file:///An_Introduction_from_the_Storyteller__Donna_Washington.asf" TargetMode="External"/><Relationship Id="rId5" Type="http://schemas.openxmlformats.org/officeDocument/2006/relationships/hyperlink" Target="file:///STOP__LOOK__LISTEN__Okey_Cokey_Karaoke__Anansi__Cat__and_Rat.asf" TargetMode="External"/><Relationship Id="rId6" Type="http://schemas.openxmlformats.org/officeDocument/2006/relationships/hyperlink" Target="file:///STOP__LOOK__LISTEN__Okey_Cokey_Karaoke__Anansi__Cat__and_Rat.asf" TargetMode="External"/><Relationship Id="rId7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hyperlink" Target="http://languagearts.pppst.com/cause-effect.html" TargetMode="External"/><Relationship Id="rId2" Type="http://schemas.openxmlformats.org/officeDocument/2006/relationships/hyperlink" Target="http://languagearts.pppst.com/compoundwords.html" TargetMode="External"/><Relationship Id="rId3" Type="http://schemas.openxmlformats.org/officeDocument/2006/relationships/hyperlink" Target="http://www.pbs.org/wonders/Kids/kids.htm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ickiblackwell.com/timer.html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Anansi%20Goes%20Fishing.htm" TargetMode="External"/><Relationship Id="rId2" Type="http://schemas.openxmlformats.org/officeDocument/2006/relationships/hyperlink" Target="http://www.scottsboro.org/~flewis/SF%20Reading%20Street/spellmaster/Anansi%20Goes%20Fishing/jigword2.html" TargetMode="External"/><Relationship Id="rId3" Type="http://schemas.openxmlformats.org/officeDocument/2006/relationships/hyperlink" Target="http://www.scottsboro.org/~flewis/SF%20Reading%20Street/spellmaster/Anansi%20Goes%20Fishing/matchword2.html" TargetMode="External"/><Relationship Id="rId4" Type="http://schemas.openxmlformats.org/officeDocument/2006/relationships/hyperlink" Target="http://www.scottsboro.org/~flewis/SF%20Reading%20Street/spellmaster/Anansi%20Goes%20Fishing/speedword2.html" TargetMode="External"/><Relationship Id="rId5" Type="http://schemas.openxmlformats.org/officeDocument/2006/relationships/hyperlink" Target="http://www.scottsboro.org/~flewis/SF%20Reading%20Street/spellmaster/Anansi%20Goes%20Fishing/wordsearch2.html" TargetMode="External"/><Relationship Id="rId6" Type="http://schemas.openxmlformats.org/officeDocument/2006/relationships/hyperlink" Target="http://www.scottsboro.org/~flewis/SF%20Reading%20Street/spellmaster/Anansi%20Goes%20Fishing/wordweb.html" TargetMode="External"/><Relationship Id="rId7" Type="http://schemas.openxmlformats.org/officeDocument/2006/relationships/hyperlink" Target="http://www.scottsboro.org/~flewis/SF%20Reading%20Street/spellmaster/Anansi%20Goes%20Fishing%20Spelling%20Words/speedword2.html" TargetMode="External"/><Relationship Id="rId8" Type="http://schemas.openxmlformats.org/officeDocument/2006/relationships/hyperlink" Target="http://www.scottsboro.org/~flewis/SF%20Reading%20Street/spellmaster/Anansi%20Goes%20Fishing%20Spelling%20Words/wordweb.html" TargetMode="External"/><Relationship Id="rId9" Type="http://schemas.openxmlformats.org/officeDocument/2006/relationships/hyperlink" Target="http://www.quia.com/rd/58344.html" TargetMode="External"/><Relationship Id="rId10" Type="http://schemas.openxmlformats.org/officeDocument/2006/relationships/hyperlink" Target="http://www.spellingcity.com/index.php?option=com_spellcity&amp;Itemid=122&amp;task=viewList&amp;listId=354244" TargetMode="External"/><Relationship Id="rId11" Type="http://schemas.openxmlformats.org/officeDocument/2006/relationships/hyperlink" Target="http://www.scottsboro.org/~flewis/SF%20Reading%20Street/Hot%20Potatoes/Anansi_Goes_Fishing.htm" TargetMode="External"/><Relationship Id="rId12" Type="http://schemas.openxmlformats.org/officeDocument/2006/relationships/hyperlink" Target="http://www.scottsboro.org/~flewis/SF%20Reading%20Street/Hot%20Potatoes/Anansi_Goes_Fishing.htm" TargetMode="External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2.xml"/><Relationship Id="rId3" Type="http://schemas.openxmlformats.org/officeDocument/2006/relationships/slide" Target="slide88.xml"/><Relationship Id="rId4" Type="http://schemas.openxmlformats.org/officeDocument/2006/relationships/slide" Target="slide104.xml"/><Relationship Id="rId5" Type="http://schemas.openxmlformats.org/officeDocument/2006/relationships/slide" Target="slide118.xml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www.americanfolklore.net/tricksters.html" TargetMode="External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Hot%20Potatoes/Anansi_Goes_Fishing.htm" TargetMode="External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837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creative ideas good? </a:t>
            </a:r>
            <a:br>
              <a:rPr sz="3600"/>
            </a:b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they bad?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79064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06" name="Picture 22" descr="Anansi Goes Fishi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8120" y="1981080"/>
            <a:ext cx="37940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mazing Words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ause and Effec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erbs for present, pas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he saw a toy in the drive way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e saw a toy in the driveway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some one played a trick on her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meone played a trick on her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Review 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use and Effec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hear a poem about how spiders avoid their own sticky trap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Wedn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scribe Anansi and Turtle, making sure to use at least one pair of antonyms</a:t>
                      </a:r>
                      <a:r>
                        <a:rPr b="0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5" name="Picture 24" descr="Anansi Goes Fishing"/>
          <p:cNvPicPr/>
          <p:nvPr/>
        </p:nvPicPr>
        <p:blipFill>
          <a:blip r:embed="rId1"/>
          <a:stretch/>
        </p:blipFill>
        <p:spPr>
          <a:xfrm>
            <a:off x="4343400" y="571500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hur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 we will read about a small clever insect.  A spider spins long, sticky webs to trap bugs to eat.  Do you know why the spider doesn’t get stuck in its own web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8" name="Picture 23" descr="Anansi Goes Fishing"/>
          <p:cNvPicPr/>
          <p:nvPr/>
        </p:nvPicPr>
        <p:blipFill>
          <a:blip r:embed="rId1"/>
          <a:stretch/>
        </p:blipFill>
        <p:spPr>
          <a:xfrm>
            <a:off x="4343400" y="571500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hur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 we will read about a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ver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insect.  A spider spins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, sticky webs to trap bugs to eat.  Do you know why the spider doesn’t get stuck in its own web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1" name="Picture 9" descr="Anansi Goes Fishing"/>
          <p:cNvPicPr/>
          <p:nvPr/>
        </p:nvPicPr>
        <p:blipFill>
          <a:blip r:embed="rId1"/>
          <a:stretch/>
        </p:blipFill>
        <p:spPr>
          <a:xfrm>
            <a:off x="4343400" y="571500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Verbs for Past, Presen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523880" y="1600200"/>
          <a:ext cx="2590920" cy="41911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4724280" y="1600200"/>
          <a:ext cx="3927600" cy="446868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entence Read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id your parents see everybody play tennis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see lots of shells wash up on the seashor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eddy keeps me company when nobody is hom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will paint a picture at recess when I am at sch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ast weekend we drove to  a faraway pla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y three teammates told me the answer after the reading tes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3733920" y="1600200"/>
          <a:ext cx="4917960" cy="454176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01800" y="60948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  <a:ea typeface="Arial"/>
              </a:rPr>
              <a:t>Anansi Goes Fish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6699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3276720" y="1523880"/>
          <a:ext cx="3047760" cy="452916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Times New Roman"/>
              </a:rPr>
              <a:t>Video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rickster Tales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hlinkClick r:id="rId1"/>
              </a:rPr>
              <a:t>A Story, A Story (Anansi tale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hlinkClick r:id="rId2"/>
              </a:rPr>
              <a:t>Mathica’s Mathshop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hlinkClick r:id="rId3"/>
              </a:rPr>
              <a:t>Folktales from Afa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hlinkClick r:id="rId4"/>
              </a:rPr>
              <a:t>African &amp; African-American Folktal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hlinkClick r:id="rId5"/>
              </a:rPr>
              <a:t>Stop, Look, Listen: Okey Cokey Karaoke!: Anansi, Cat, and Rat</a:t>
            </a: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hlinkClick r:id="rId6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853452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i fish in the pond yesserday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fished in the pond yesterday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i will fished agen tomorro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will fish again tomorrow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Verb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I played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I play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I will play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I cleaned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I clean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I will clean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Review 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ext to Tex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hear a story about a monkey that tricked a hippopotamu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hur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ake a list of animals that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unt for prey.</a:t>
                      </a:r>
                      <a:r>
                        <a:rPr b="0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6" name="Picture 23" descr="Anansi Goes Fishing"/>
          <p:cNvPicPr/>
          <p:nvPr/>
        </p:nvPicPr>
        <p:blipFill>
          <a:blip r:embed="rId1"/>
          <a:stretch/>
        </p:blipFill>
        <p:spPr>
          <a:xfrm>
            <a:off x="4343400" y="571500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Fri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is week we read about characters who had creative ideas.  When are creative ideas good?  When are they bad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9" name="Picture 25" descr="Anansi Goes Fishing"/>
          <p:cNvPicPr/>
          <p:nvPr/>
        </p:nvPicPr>
        <p:blipFill>
          <a:blip r:embed="rId1"/>
          <a:stretch/>
        </p:blipFill>
        <p:spPr>
          <a:xfrm>
            <a:off x="4191120" y="571500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90720" y="21715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Review Amazing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Review High-Frequency Words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erbs for Past, Presen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lphabetical Order to the Second Lett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consum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 - sum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su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something, you eat it or use it all up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Our famil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sum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 huge bowl of popcorn while we watched TV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 lot of my extra time i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sum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by homework and playing ball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1523880" y="1600200"/>
          <a:ext cx="2590920" cy="41911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4724280" y="1600200"/>
          <a:ext cx="3927600" cy="446868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gave him a basketball for his birthday last weeken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gave him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for his birthday la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eken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omeone will watch the sailboat near the seasho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on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will watc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lboat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ar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sho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put something in the treehouse by our driveway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pu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ho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by ou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he broke the egg at breakfast and they were everywhe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he broke the egg 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fast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and they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3276720" y="1523880"/>
          <a:ext cx="3047760" cy="452916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High-Frequency Words</a:t>
            </a:r>
            <a:br>
              <a:rPr sz="4000"/>
            </a:b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been, finally, whatever, today, tomorrow, believe</a:t>
            </a:r>
            <a:endParaRPr b="0" i="1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____ a fish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an you ___ I got my wish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_____ will I do with it?” I sa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____ was a great day!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om said ____ I could go agai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he said I could ___ take my friend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f I do not take him, he will not know where I have _____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3733920" y="1600200"/>
          <a:ext cx="4917960" cy="454176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i want to do some thing fur bill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want to do something for Bill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do you had any ideas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o you have any ideas?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ictionaries, glossaries, and names in a telephone book are all arranged in alhabetical order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ords that begin with a come before words that begin with b, and so 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ometimes two or more words begin with the same letter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hen this happens, we alphabetize by the second letter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nimal, friend, fish, spider, f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nima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is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rien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pid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alk, where, wen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al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n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prey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an animal that is hunted and killed by another animal for foo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mall fish are often 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of bigger fi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ice are 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of cat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low, stupid, sha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lo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tupi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ired, tomorrow, the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tch, cook, cri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tc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o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ri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Wrap Up Our Week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’s Talk About Creative Ideas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hen are creative ideas good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hen are creative ideas bad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we will read about two sisters who use creative ideas to help each oth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Fri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 about a spider's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 prey.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3" name="Picture 23" descr="Anansi Goes Fishing"/>
          <p:cNvPicPr/>
          <p:nvPr/>
        </p:nvPicPr>
        <p:blipFill>
          <a:blip r:embed="rId1"/>
          <a:stretch/>
        </p:blipFill>
        <p:spPr>
          <a:xfrm>
            <a:off x="4267080" y="5715000"/>
            <a:ext cx="95112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9933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i="1" lang="en-US" sz="4400" spc="-1" strike="noStrike">
                <a:solidFill>
                  <a:srgbClr val="999933"/>
                </a:solidFill>
                <a:latin typeface="Verdana"/>
              </a:rPr>
              <a:t>take our story tests.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tory tes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Classroom webpage,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Student page,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99"/>
                </a:solidFill>
                <a:uFillTx/>
                <a:latin typeface="Arial"/>
                <a:ea typeface="Arial"/>
              </a:rPr>
              <a:t>Taking Tes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Other Reading Quizz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Quiz # 904599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Related Links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523880" y="1752480"/>
          <a:ext cx="6096240" cy="399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0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"/>
                        </a:rPr>
                        <a:t>Cause and Effect Webs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2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3"/>
                        </a:rPr>
                        <a:t>Kids' Africa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 Africa with Anansi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Stream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tory, A Story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site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nky the Tooth Taker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et Quest for Opposite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e Go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g and Drop</a:t>
                      </a: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8" name="Picture 9" descr="Anansi Goes Fishing"/>
          <p:cNvPicPr/>
          <p:nvPr/>
        </p:nvPicPr>
        <p:blipFill>
          <a:blip r:embed="rId4"/>
          <a:stretch/>
        </p:blipFill>
        <p:spPr>
          <a:xfrm>
            <a:off x="4267080" y="5715000"/>
            <a:ext cx="95112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Related Links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523880" y="1752480"/>
          <a:ext cx="6096240" cy="3810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2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he circle to make a compound wor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Ready to Read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 Stor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 Ga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der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 Webs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1" name="Picture 9" descr="Anansi Goes Fishing"/>
          <p:cNvPicPr/>
          <p:nvPr/>
        </p:nvPicPr>
        <p:blipFill>
          <a:blip r:embed="rId1"/>
          <a:stretch/>
        </p:blipFill>
        <p:spPr>
          <a:xfrm>
            <a:off x="4267080" y="5715000"/>
            <a:ext cx="95112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shrewd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omeone or something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very clever and smar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Dad told me to b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bout deciding what to do with my allowanc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detective made a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plan to catch the thief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sail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– </a:t>
            </a: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b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oday we’ll learn about combining two words, such as </a:t>
            </a: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sail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, to make a compound wor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made up of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he meaning of the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often made up of the meanings of the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two words do you hear in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does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mea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made up of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he meaning of the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often made up of the meanings of the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two words do you hear in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does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mea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To read compound words, first chunk the word into two word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Read the two words and then blend them into one word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Let’s blend this word together: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sail-boat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someon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bedtim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snowstor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pancak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76360" y="160020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mayb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daytim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cupcak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irli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haystac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networ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ainstor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828800" y="19807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33"/>
                </a:solidFill>
                <a:latin typeface="Verdana"/>
              </a:rPr>
              <a:t>Small</a:t>
            </a:r>
            <a:r>
              <a:rPr b="1" lang="en-US" sz="54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999933"/>
                </a:solidFill>
                <a:latin typeface="Verdana"/>
              </a:rPr>
              <a:t>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cbcbcb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276360" y="160020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schoolyar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everything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bathtu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aindrop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brainstor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lipstic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irpla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owb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3520" y="1790640"/>
            <a:ext cx="29718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asebal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tarfis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ailroa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goldfis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orev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aychec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nowflak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andlor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05160" y="179064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asho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apto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irthda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eeken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unta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ackyar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abys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grasshopp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en you read compound words, chunk the word into two small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ead the two words and blend them into one compound wor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3733920" y="1600200"/>
          <a:ext cx="4917960" cy="454176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Let’s Talk About: Creative Ideas</a:t>
            </a:r>
            <a:endParaRPr b="0" i="1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et’s Talk About: Creative Ideas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85800" y="179064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9" descr="Student Pages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ause and Effec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Most things happen for a reason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Good readers ask themselves what happens and why it happens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Words like 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because</a:t>
            </a: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 can help you figure out why something happens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609120" y="-609480"/>
            <a:ext cx="8534520" cy="67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hir purse is durty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er purse is dirty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he tirtle ca’nt run fast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turtle can’t run fast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Jeb bakes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ver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k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tells about now.  It ends with –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k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verb baked tells about the past.  It ends with –e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bak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verb will bake tells about the future.  It begins with will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Review Game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71600" y="179064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81480" y="179064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7"/>
              </a:rPr>
              <a:t>Speed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8"/>
              </a:rPr>
              <a:t>Word Web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9"/>
              </a:rPr>
              <a:t>Quia Gam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0"/>
              </a:rPr>
              <a:t>Spelling C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1"/>
              </a:rPr>
              <a:t>Fill-in-the Blank</a:t>
            </a: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2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invents new kinds of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sprinkles coconu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added pineappl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will use squa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quash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quash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 the future, I will make my own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quash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 the future,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mak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y own muffins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523880" y="1600200"/>
          <a:ext cx="2590920" cy="41911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4724280" y="1600200"/>
          <a:ext cx="3927600" cy="446868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Review 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use and effec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about a trickster named Anansi who gets tricked himself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on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 a paragraph about a time when you were shrewd.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3" name="Picture 32" descr="Anansi Goes Fishing"/>
          <p:cNvPicPr/>
          <p:nvPr/>
        </p:nvPicPr>
        <p:blipFill>
          <a:blip r:embed="rId1"/>
          <a:stretch/>
        </p:blipFill>
        <p:spPr>
          <a:xfrm>
            <a:off x="4191120" y="563868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u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ow do you feel when someone tries to trick you or when anyone lies to you?  What is something you can do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6" name="Picture 23" descr="Anansi Goes Fishing"/>
          <p:cNvPicPr/>
          <p:nvPr/>
        </p:nvPicPr>
        <p:blipFill>
          <a:blip r:embed="rId1"/>
          <a:stretch/>
        </p:blipFill>
        <p:spPr>
          <a:xfrm>
            <a:off x="4343400" y="563868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u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ow do you feel when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one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tries to trick you or when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one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lies to you?  What is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hing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you can do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9" name="Picture 9" descr="Anansi Goes Fishing"/>
          <p:cNvPicPr/>
          <p:nvPr/>
        </p:nvPicPr>
        <p:blipFill>
          <a:blip r:embed="rId1"/>
          <a:stretch/>
        </p:blipFill>
        <p:spPr>
          <a:xfrm>
            <a:off x="4343400" y="563868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948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Arial"/>
                <a:ea typeface="Arial"/>
              </a:rPr>
              <a:t>Word Reading: </a:t>
            </a:r>
            <a:br>
              <a:rPr sz="4000"/>
            </a:br>
            <a:r>
              <a:rPr b="1" i="1" lang="en-US" sz="3600" spc="-1" strike="noStrike">
                <a:solidFill>
                  <a:srgbClr val="dddddd"/>
                </a:solidFill>
                <a:latin typeface="Arial"/>
                <a:ea typeface="Arial"/>
              </a:rPr>
              <a:t>Pick out the compound words in “Mistake in the Lake.”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123720" y="2171880"/>
            <a:ext cx="5334120" cy="43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Grandp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rowb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outsid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Grandm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lunchbox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unscree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halfw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omeo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1800" y="60948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  <a:ea typeface="Arial"/>
              </a:rPr>
              <a:t>Anansi Goes Fish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6699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boas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omeone who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brags or speaks too well of himself of herself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at girl alway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bout her grad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Jim says he can run faster than I can, but I think he’s just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in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glo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think about something you’re very satisfied with, you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bout i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two farmers in the stor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that their machines would get rid of the mic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y big brother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t his team’s first win all seas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snick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 - 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, you giggle or laugh in a mean way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one farmer saw the other’s mouse-catching machine, 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e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t i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kid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e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t the strange-looking ca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76720" y="1523880"/>
          <a:ext cx="3047760" cy="452916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t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733920" y="1600200"/>
          <a:ext cx="4917960" cy="454176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u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u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u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n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basketball in the driveway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birthday party will be in the backyar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riverbank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8880" y="639360"/>
            <a:ext cx="838512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Times New Roman"/>
              </a:rPr>
              <a:t>Big Question: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creative ideas good? </a:t>
            </a:r>
            <a:br>
              <a:rPr sz="3600"/>
            </a:b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they bad?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riverban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riverban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have popcorn before bedtime on the weeken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riverban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hav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popcorn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befor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edtim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o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weeken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3733920" y="1600200"/>
          <a:ext cx="4917960" cy="454176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ause and Effec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ost things happen for a reas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Good readers ask themselves what happens and why it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ords like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can help you figure out why something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s you read, ask yourself what happens and why it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Look for clue words, such as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that signal caus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Monitor and Fix Up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When you read a story, ask yourself questions like: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o is this story about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ere does it happe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at is happening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Monitor and Fix Up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If you don’t know the answer to a question, then stop the way you have been reading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You might need to slow down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If you read more slowly, you can better understand what you are reading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bcbcb"/>
                </a:solidFill>
                <a:uFillTx/>
                <a:latin typeface="Times New Roman"/>
                <a:hlinkClick r:id="rId1"/>
              </a:rPr>
              <a:t>Trickster Tale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44792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ometimes characters try to trick one another to get what they want.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76720" y="1523880"/>
          <a:ext cx="3047760" cy="452916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52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Times New Roman"/>
              </a:rPr>
              <a:t>High-Frequency Word Review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752480" y="179064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or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ugh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ol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ee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rough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52520" y="179064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atche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atev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eliev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tc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nal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on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reative ideas can solve problems or answer questions.  When are creative ideas good?  When are they bad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28" descr="Anansi Goes Fishi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791320"/>
            <a:ext cx="951120" cy="91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523880" y="1600200"/>
          <a:ext cx="2590920" cy="41911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4724280" y="1600200"/>
          <a:ext cx="3927600" cy="446868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Times New Roman"/>
              </a:rPr>
              <a:t>Vocabulary Words</a:t>
            </a: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azy – not liking to work or be activ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ave – to form threads into cloth or web or to make straw into hats or baske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elicious – something that tastes really goo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ustice- something that is fair and righ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Times New Roman"/>
              </a:rPr>
              <a:t>Vocabulary Words</a:t>
            </a:r>
            <a:br>
              <a:rPr sz="4000"/>
            </a:br>
            <a:r>
              <a:rPr b="1" i="1" lang="en-US" sz="3200" spc="-1" strike="noStrike">
                <a:solidFill>
                  <a:srgbClr val="dddddd"/>
                </a:solidFill>
                <a:latin typeface="Times New Roman"/>
              </a:rPr>
              <a:t>lazy, weave, delicious, justice</a:t>
            </a:r>
            <a:endParaRPr b="0" i="1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ig Spider watched Little Spider ____ a large web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ig Spider felt ____, so she did not help Little Spid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ittle Spider ate a _____ bug that got caught in the web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ittle Spider said, “Too bad you’re hungry, Big Spider, but that’s ____!”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-22860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last week end I sent a leter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st weekend I sent a letter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my mom red a story at bed time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y mom read a story at bedtime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 fish now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ow. (presen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we fishe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w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 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fi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fish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 (future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Review 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onitor and Fix Up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hear a story about another very tricky charact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u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ink of a time when you had a good idea and tell what happened when you used it.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0" name="Picture 25" descr="Anansi Goes Fishing"/>
          <p:cNvPicPr/>
          <p:nvPr/>
        </p:nvPicPr>
        <p:blipFill>
          <a:blip r:embed="rId1"/>
          <a:stretch/>
        </p:blipFill>
        <p:spPr>
          <a:xfrm>
            <a:off x="4267080" y="5638680"/>
            <a:ext cx="95112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Wedne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 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Yesterday Farmer Smart had a problem.  Today he finds a way to fix it.  Tomorrow he won’t have the problem anymore!  How do you fix your problems?</a:t>
                      </a:r>
                      <a:r>
                        <a:rPr b="0" lang="en-US" sz="4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3" name="Picture 23" descr="Anansi Goes Fishing"/>
          <p:cNvPicPr/>
          <p:nvPr/>
        </p:nvPicPr>
        <p:blipFill>
          <a:blip r:embed="rId1"/>
          <a:stretch/>
        </p:blipFill>
        <p:spPr>
          <a:xfrm>
            <a:off x="4343400" y="563868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Wedne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 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terday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Farmer Smart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d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a problem.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he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finds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a way to fix it.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orrow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he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on’t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ve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the problem anymore!  How do you fix your problems?</a:t>
                      </a:r>
                      <a:r>
                        <a:rPr b="0" lang="en-US" sz="4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6" name="Picture 9" descr="Anansi Goes Fishing"/>
          <p:cNvPicPr/>
          <p:nvPr/>
        </p:nvPicPr>
        <p:blipFill>
          <a:blip r:embed="rId1"/>
          <a:stretch/>
        </p:blipFill>
        <p:spPr>
          <a:xfrm>
            <a:off x="4343400" y="563868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on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reative ideas can solve problems or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questions.  When are creative ideas good?  When are they bad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7" name="Picture 9" descr="Anansi Goes Fishi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791320"/>
            <a:ext cx="951120" cy="91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mazing Words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Long o: </a:t>
            </a:r>
            <a:r>
              <a:rPr b="1" i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o, oa, o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High-Frequency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ocabulary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erbs for Past, Presen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01800" y="60948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  <a:ea typeface="Arial"/>
              </a:rPr>
              <a:t>Anansi Goes Fish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6699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contentmen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 – tent – ment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tentm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a feeling of being pleased or satisfie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dog stretched and sighed in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tentm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fter dinner, we sat around the campfire in complet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tentm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cur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something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you, it makes you feel better and healthy agai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medicine the doctor gave m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my ra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cientists are searching for a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for many different diseas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inciden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 – ci - d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cid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something that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at movie had some very exciting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ci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n i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om told us several funn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ci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from her trip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dddddd"/>
                </a:solidFill>
                <a:latin typeface="Times New Roman"/>
              </a:rPr>
              <a:t>Making Words</a:t>
            </a: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85440" y="13716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a – o</a:t>
            </a:r>
            <a:r>
              <a:rPr b="1" lang="en-US" sz="8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300" spc="-1" strike="noStrike">
                <a:solidFill>
                  <a:srgbClr val="000000"/>
                </a:solidFill>
                <a:latin typeface="Arial"/>
              </a:rPr>
              <a:t>d – g – l – m – t – w</a:t>
            </a:r>
            <a:r>
              <a:rPr b="0" lang="en-US" sz="6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3276720" y="1523880"/>
          <a:ext cx="3047760" cy="452916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High-Frequency Words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whatever, tomorrow, finally, believe, today, caught, been</a:t>
            </a:r>
            <a:endParaRPr b="0" i="1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woke up on Sunday morning and said, “____ I don’t have to go to school.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love all kinds of foods and will eat ____ Dad puts on my plat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o you ___ fairy tales are true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Yesterday I went fishing and ____ three fish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woke up on Thursday and said, “___ is Friday!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have ___ sick for three day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can’t wait until I’m ___ old enough to driv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made up of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he meaning of the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often made up of the meanings of the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two words do you hear in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does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mea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3733920" y="1600200"/>
          <a:ext cx="4917960" cy="454176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09:51:42Z</dcterms:modified>
  <cp:revision>28</cp:revision>
  <dc:subject/>
  <dc:title>Slide 1</dc:title>
</cp:coreProperties>
</file>